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E8D-3484-4A8F-B608-A496789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83C-D547-4191-99F1-8EA74AC9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138-5887-4D70-B4C4-A3B373D1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B66-1C7E-424B-A555-4FDAC08F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896-7739-4112-BC2F-5C39F00D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60C-5DB1-4DA8-8595-C65C096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2A8-10E3-44D4-87A8-BCB35C53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125-22ED-4395-9A24-F64DCFA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60B-78E8-4477-95F2-BFFEFFC3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A93-F67B-43E3-85A2-B690A45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B00-2DC7-473B-9505-69DC25D6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F55-B93E-4F15-B4E8-4D0DD36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A0C-A72E-4A14-9FC1-F970CBB2A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324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3333cc"/>
                </a:solidFill>
                <a:latin typeface="Comic Sans MS"/>
              </a:rPr>
              <a:t>Der</a:t>
            </a:r>
            <a:br>
              <a:rPr sz="6600"/>
            </a:br>
            <a:r>
              <a:rPr b="0" lang="de-DE" sz="6600" spc="-1" strike="noStrike">
                <a:solidFill>
                  <a:srgbClr val="3333cc"/>
                </a:solidFill>
                <a:latin typeface="Comic Sans MS"/>
              </a:rPr>
              <a:t>Proton – Proton</a:t>
            </a:r>
            <a:br>
              <a:rPr sz="6600"/>
            </a:br>
            <a:r>
              <a:rPr b="0" lang="de-DE" sz="6600" spc="-1" strike="noStrike">
                <a:solidFill>
                  <a:srgbClr val="3333cc"/>
                </a:solidFill>
                <a:latin typeface="Comic Sans MS"/>
              </a:rPr>
              <a:t>Prozess</a:t>
            </a:r>
            <a:endParaRPr b="0" lang="en-US" sz="66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57400" y="866880"/>
            <a:ext cx="594720" cy="861840"/>
            <a:chOff x="1157400" y="866880"/>
            <a:chExt cx="594720" cy="861840"/>
          </a:xfrm>
        </p:grpSpPr>
        <p:sp>
          <p:nvSpPr>
            <p:cNvPr id="43" name=""/>
            <p:cNvSpPr/>
            <p:nvPr/>
          </p:nvSpPr>
          <p:spPr>
            <a:xfrm flipV="1">
              <a:off x="1157400" y="1442880"/>
              <a:ext cx="57132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0800" y="866880"/>
              <a:ext cx="57132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977080" y="2610000"/>
            <a:ext cx="333360" cy="1638000"/>
            <a:chOff x="5977080" y="2610000"/>
            <a:chExt cx="333360" cy="1638000"/>
          </a:xfrm>
        </p:grpSpPr>
        <p:sp>
          <p:nvSpPr>
            <p:cNvPr id="46" name=""/>
            <p:cNvSpPr/>
            <p:nvPr/>
          </p:nvSpPr>
          <p:spPr>
            <a:xfrm>
              <a:off x="5981760" y="2610000"/>
              <a:ext cx="328680" cy="58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5977080" y="3819600"/>
              <a:ext cx="31428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76120" y="243000"/>
            <a:ext cx="866520" cy="2246040"/>
            <a:chOff x="276120" y="243000"/>
            <a:chExt cx="866520" cy="2246040"/>
          </a:xfrm>
        </p:grpSpPr>
        <p:grpSp>
          <p:nvGrpSpPr>
            <p:cNvPr id="49" name=""/>
            <p:cNvGrpSpPr/>
            <p:nvPr/>
          </p:nvGrpSpPr>
          <p:grpSpPr>
            <a:xfrm>
              <a:off x="733320" y="609480"/>
              <a:ext cx="409320" cy="1376640"/>
              <a:chOff x="733320" y="609480"/>
              <a:chExt cx="409320" cy="1376640"/>
            </a:xfrm>
          </p:grpSpPr>
          <p:sp>
            <p:nvSpPr>
              <p:cNvPr id="50" name=""/>
              <p:cNvSpPr/>
              <p:nvPr/>
            </p:nvSpPr>
            <p:spPr>
              <a:xfrm>
                <a:off x="733320" y="1604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1760" y="609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76120" y="243000"/>
                  <a:ext cx="4446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14280" y="1838160"/>
                  <a:ext cx="4446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1676520" y="0"/>
            <a:ext cx="2122200" cy="2629080"/>
            <a:chOff x="1676520" y="0"/>
            <a:chExt cx="2122200" cy="2629080"/>
          </a:xfrm>
        </p:grpSpPr>
        <p:grpSp>
          <p:nvGrpSpPr>
            <p:cNvPr id="55" name=""/>
            <p:cNvGrpSpPr/>
            <p:nvPr/>
          </p:nvGrpSpPr>
          <p:grpSpPr>
            <a:xfrm>
              <a:off x="1676520" y="371520"/>
              <a:ext cx="1619280" cy="1900080"/>
              <a:chOff x="1676520" y="371520"/>
              <a:chExt cx="1619280" cy="19000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2838600" y="1181160"/>
                <a:ext cx="457200" cy="489960"/>
                <a:chOff x="2838600" y="1181160"/>
                <a:chExt cx="457200" cy="4899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914920" y="118116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a7a7a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838600" y="1290600"/>
                  <a:ext cx="381240" cy="38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2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676520" y="1076400"/>
                <a:ext cx="533160" cy="5331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2109960" y="523440"/>
                <a:ext cx="342720" cy="51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00200" y="371520"/>
                <a:ext cx="128880" cy="1285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1720" y="1571760"/>
                <a:ext cx="128520" cy="6998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95360" y="1324080"/>
                <a:ext cx="486000" cy="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727360" y="0"/>
                  <a:ext cx="4190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974960" y="2254320"/>
                  <a:ext cx="3394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294000" y="762120"/>
                  <a:ext cx="5047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"/>
          <p:cNvGrpSpPr/>
          <p:nvPr/>
        </p:nvGrpSpPr>
        <p:grpSpPr>
          <a:xfrm>
            <a:off x="2533680" y="1604880"/>
            <a:ext cx="1386000" cy="1575000"/>
            <a:chOff x="2533680" y="1604880"/>
            <a:chExt cx="1386000" cy="1575000"/>
          </a:xfrm>
        </p:grpSpPr>
        <p:grpSp>
          <p:nvGrpSpPr>
            <p:cNvPr id="68" name=""/>
            <p:cNvGrpSpPr/>
            <p:nvPr/>
          </p:nvGrpSpPr>
          <p:grpSpPr>
            <a:xfrm>
              <a:off x="2886120" y="1604880"/>
              <a:ext cx="1033560" cy="1090800"/>
              <a:chOff x="2886120" y="1604880"/>
              <a:chExt cx="1033560" cy="1090800"/>
            </a:xfrm>
          </p:grpSpPr>
          <p:sp>
            <p:nvSpPr>
              <p:cNvPr id="69" name=""/>
              <p:cNvSpPr/>
              <p:nvPr/>
            </p:nvSpPr>
            <p:spPr>
              <a:xfrm>
                <a:off x="2886120" y="231444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62480" y="1604880"/>
                <a:ext cx="45720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386160" y="2171520"/>
                <a:ext cx="471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533680" y="2529000"/>
                  <a:ext cx="4446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4043520" y="1017720"/>
            <a:ext cx="2582640" cy="1535040"/>
            <a:chOff x="4043520" y="1017720"/>
            <a:chExt cx="2582640" cy="1535040"/>
          </a:xfrm>
        </p:grpSpPr>
        <p:grpSp>
          <p:nvGrpSpPr>
            <p:cNvPr id="74" name=""/>
            <p:cNvGrpSpPr/>
            <p:nvPr/>
          </p:nvGrpSpPr>
          <p:grpSpPr>
            <a:xfrm>
              <a:off x="4043520" y="1376280"/>
              <a:ext cx="1995120" cy="1176480"/>
              <a:chOff x="4043520" y="1376280"/>
              <a:chExt cx="1995120" cy="1176480"/>
            </a:xfrm>
          </p:grpSpPr>
          <p:sp>
            <p:nvSpPr>
              <p:cNvPr id="75" name=""/>
              <p:cNvSpPr/>
              <p:nvPr/>
            </p:nvSpPr>
            <p:spPr>
              <a:xfrm>
                <a:off x="4043520" y="1843200"/>
                <a:ext cx="533160" cy="5331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5433840" y="1995480"/>
                <a:ext cx="604800" cy="557280"/>
                <a:chOff x="5433840" y="1995480"/>
                <a:chExt cx="604800" cy="5572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514840" y="19954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a7a7a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57760" y="213840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2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33840" y="217188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2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4734000" y="2133720"/>
                <a:ext cx="55728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505400" y="1376280"/>
                <a:ext cx="271440" cy="41436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772160" y="1017720"/>
                  <a:ext cx="35712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915160" y="1500120"/>
                  <a:ext cx="7110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H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243000" y="3614760"/>
            <a:ext cx="6335640" cy="3243240"/>
            <a:chOff x="243000" y="3614760"/>
            <a:chExt cx="6335640" cy="3243240"/>
          </a:xfrm>
        </p:grpSpPr>
        <p:grpSp>
          <p:nvGrpSpPr>
            <p:cNvPr id="85" name=""/>
            <p:cNvGrpSpPr/>
            <p:nvPr/>
          </p:nvGrpSpPr>
          <p:grpSpPr>
            <a:xfrm>
              <a:off x="604800" y="4952880"/>
              <a:ext cx="409320" cy="1376640"/>
              <a:chOff x="604800" y="4952880"/>
              <a:chExt cx="409320" cy="137664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604800" y="49525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633240" y="59479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4086360" y="4414680"/>
              <a:ext cx="533160" cy="5335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028880" y="5210280"/>
              <a:ext cx="594720" cy="861840"/>
              <a:chOff x="1028880" y="5210280"/>
              <a:chExt cx="594720" cy="861840"/>
            </a:xfrm>
          </p:grpSpPr>
          <p:sp>
            <p:nvSpPr>
              <p:cNvPr id="90" name=""/>
              <p:cNvSpPr/>
              <p:nvPr/>
            </p:nvSpPr>
            <p:spPr>
              <a:xfrm>
                <a:off x="1028880" y="5210280"/>
                <a:ext cx="571320" cy="2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1052280" y="5786640"/>
                <a:ext cx="57132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909880" y="5100480"/>
              <a:ext cx="457200" cy="490680"/>
              <a:chOff x="2909880" y="5100480"/>
              <a:chExt cx="457200" cy="490680"/>
            </a:xfrm>
          </p:grpSpPr>
          <p:sp>
            <p:nvSpPr>
              <p:cNvPr id="93" name=""/>
              <p:cNvSpPr/>
              <p:nvPr/>
            </p:nvSpPr>
            <p:spPr>
              <a:xfrm>
                <a:off x="2986200" y="5100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09880" y="5210280"/>
                <a:ext cx="381240" cy="380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V="1">
              <a:off x="1704960" y="5162400"/>
              <a:ext cx="533520" cy="5335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8400" y="5734080"/>
              <a:ext cx="342720" cy="51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29000" y="6271560"/>
              <a:ext cx="128520" cy="128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00160" y="4543200"/>
              <a:ext cx="128520" cy="6570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324160" y="5419440"/>
              <a:ext cx="485640" cy="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928960" y="4076640"/>
              <a:ext cx="1033560" cy="1090800"/>
              <a:chOff x="2928960" y="4076640"/>
              <a:chExt cx="1033560" cy="10908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2928960" y="40762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505320" y="4810320"/>
                <a:ext cx="457200" cy="35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29000" y="4372200"/>
                <a:ext cx="471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433840" y="4210200"/>
              <a:ext cx="604800" cy="556560"/>
              <a:chOff x="5433840" y="4210200"/>
              <a:chExt cx="604800" cy="556560"/>
            </a:xfrm>
          </p:grpSpPr>
          <p:sp>
            <p:nvSpPr>
              <p:cNvPr id="105" name=""/>
              <p:cNvSpPr/>
              <p:nvPr/>
            </p:nvSpPr>
            <p:spPr>
              <a:xfrm>
                <a:off x="5514840" y="4210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7a7a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57760" y="4352760"/>
                <a:ext cx="380880" cy="380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33840" y="4386240"/>
                <a:ext cx="380880" cy="380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V="1">
              <a:off x="4748040" y="4591080"/>
              <a:ext cx="55728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548240" y="5019480"/>
              <a:ext cx="257040" cy="47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243000" y="6207120"/>
                  <a:ext cx="4442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52360" y="4462560"/>
                  <a:ext cx="4446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751120" y="6215040"/>
                  <a:ext cx="4190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2022480" y="4187880"/>
                  <a:ext cx="3398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4724280" y="5499000"/>
                  <a:ext cx="3574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403440" y="5272200"/>
                  <a:ext cx="50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2562120" y="3614760"/>
                  <a:ext cx="44460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867280" y="4695840"/>
                  <a:ext cx="7113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H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6238800" y="1738440"/>
            <a:ext cx="2687760" cy="3584520"/>
            <a:chOff x="6238800" y="1738440"/>
            <a:chExt cx="2687760" cy="3584520"/>
          </a:xfrm>
        </p:grpSpPr>
        <p:grpSp>
          <p:nvGrpSpPr>
            <p:cNvPr id="119" name=""/>
            <p:cNvGrpSpPr/>
            <p:nvPr/>
          </p:nvGrpSpPr>
          <p:grpSpPr>
            <a:xfrm>
              <a:off x="6238800" y="2400480"/>
              <a:ext cx="2195280" cy="2228760"/>
              <a:chOff x="6238800" y="2400480"/>
              <a:chExt cx="2195280" cy="2228760"/>
            </a:xfrm>
          </p:grpSpPr>
          <p:sp>
            <p:nvSpPr>
              <p:cNvPr id="120" name=""/>
              <p:cNvSpPr/>
              <p:nvPr/>
            </p:nvSpPr>
            <p:spPr>
              <a:xfrm>
                <a:off x="7248600" y="240048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81720" y="424800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38800" y="3238560"/>
                <a:ext cx="533520" cy="5335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758000" y="3191040"/>
                <a:ext cx="676080" cy="590400"/>
                <a:chOff x="7758000" y="3191040"/>
                <a:chExt cx="676080" cy="590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919640" y="3400560"/>
                  <a:ext cx="38124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a7a7a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910280" y="319104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a7a7a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53200" y="329076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2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58000" y="329580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2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915240" y="3500280"/>
                <a:ext cx="67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810480" y="2795760"/>
                <a:ext cx="385560" cy="41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19840" y="3790800"/>
                <a:ext cx="414360" cy="40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7391520" y="4672080"/>
                  <a:ext cx="4442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7372440" y="1738440"/>
                  <a:ext cx="4442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8215200" y="3714840"/>
                  <a:ext cx="7113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H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30200" y="2494080"/>
            <a:ext cx="2455920" cy="1038240"/>
            <a:chOff x="430200" y="2494080"/>
            <a:chExt cx="2455920" cy="103824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30200" y="2494080"/>
                  <a:ext cx="13701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2043000" y="3014640"/>
              <a:ext cx="843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171960" y="2508120"/>
                <a:ext cx="11509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76680" y="3941640"/>
                <a:ext cx="3221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29000" y="2490840"/>
                <a:ext cx="1749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021360" y="2711520"/>
                <a:ext cx="1381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329600" y="2711520"/>
                <a:ext cx="138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45:17Z</dcterms:created>
  <dc:creator>JL</dc:creator>
  <dc:description/>
  <dc:language>en-US</dc:language>
  <cp:lastModifiedBy>JL</cp:lastModifiedBy>
  <dcterms:modified xsi:type="dcterms:W3CDTF">2008-01-16T10:00:43Z</dcterms:modified>
  <cp:revision>13</cp:revision>
  <dc:subject/>
  <dc:title>Der Proton – Proton Prozess</dc:title>
</cp:coreProperties>
</file>