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812958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zen hier ein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8000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5356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44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8000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5356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56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8000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5356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644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88000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35356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56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446760" indent="-2840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6360" indent="-2844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885600" indent="-2840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113480" indent="-2844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333080" indent="-2844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333080" indent="-2844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333080" indent="-2844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78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24200" y="31845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981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086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194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303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412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128600" y="1409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2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523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634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747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9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860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973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171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9120" y="32209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2086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3680" y="112068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997680" y="4468680"/>
              <a:ext cx="177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0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2201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673680" y="112068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997680" y="4468680"/>
              <a:ext cx="177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5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2316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504960" y="1949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132240" y="4937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781680" y="3281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65680" y="252576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512960" y="187812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093680" y="13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784240" y="1049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973320" y="115740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952960" y="180504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673680" y="1120680"/>
              <a:ext cx="177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97680" y="4468680"/>
              <a:ext cx="177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267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57320" y="4397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24200" y="32558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366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57320" y="4397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467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57320" y="4397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569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671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774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800280" y="863640"/>
            <a:ext cx="6523920" cy="4365720"/>
            <a:chOff x="800280" y="863640"/>
            <a:chExt cx="6523920" cy="4365720"/>
          </a:xfrm>
        </p:grpSpPr>
        <p:sp>
          <p:nvSpPr>
            <p:cNvPr id="877" name=""/>
            <p:cNvSpPr/>
            <p:nvPr/>
          </p:nvSpPr>
          <p:spPr>
            <a:xfrm flipV="1">
              <a:off x="1127880" y="1085400"/>
              <a:ext cx="17283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1704960" y="1085760"/>
              <a:ext cx="1152000" cy="82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1128600" y="1444320"/>
              <a:ext cx="576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1272600" y="1913040"/>
              <a:ext cx="43164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1164600" y="2813040"/>
              <a:ext cx="10764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164240" y="3497040"/>
              <a:ext cx="10076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72960" y="34974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2857320" y="2668680"/>
              <a:ext cx="360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1704960" y="1912680"/>
              <a:ext cx="115200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056600" y="3749760"/>
              <a:ext cx="10764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056960" y="4397040"/>
              <a:ext cx="9000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1164960" y="3749400"/>
              <a:ext cx="792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57320" y="4397400"/>
              <a:ext cx="1260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2172600" y="3497040"/>
              <a:ext cx="1044360" cy="12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217680" y="3460320"/>
              <a:ext cx="0" cy="12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216960" y="2849400"/>
              <a:ext cx="89820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3541320" y="2021040"/>
              <a:ext cx="5742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57320" y="2021040"/>
              <a:ext cx="684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57320" y="1085760"/>
              <a:ext cx="1150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08240" y="1228680"/>
              <a:ext cx="57600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116240" y="1913040"/>
              <a:ext cx="468000" cy="9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3216960" y="4397040"/>
              <a:ext cx="7902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4007520" y="3965400"/>
              <a:ext cx="1007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4115880" y="2813040"/>
              <a:ext cx="899640" cy="11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5015520" y="2597040"/>
              <a:ext cx="720360" cy="13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5736240" y="1877760"/>
              <a:ext cx="32364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584600" y="1878120"/>
              <a:ext cx="1476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60240" y="1193400"/>
              <a:ext cx="7203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81680" y="1193760"/>
              <a:ext cx="107640" cy="21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5736600" y="2560680"/>
              <a:ext cx="11523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015880" y="3389400"/>
              <a:ext cx="187308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16240" y="3965760"/>
              <a:ext cx="1152360" cy="10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6168240" y="4541760"/>
              <a:ext cx="899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889680" y="3389040"/>
              <a:ext cx="21528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84240" y="1120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09680" y="1733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52600" y="1589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25680" y="1265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68600" y="1373400"/>
              <a:ext cx="114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04960" y="2344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00240" y="22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73320" y="223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17680" y="212904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4460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93680" y="31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9696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96960" y="396576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4932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2532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33320" y="4433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641320" y="385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41320" y="3317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144600" y="2957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88960" y="40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6600" y="461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49680" y="421812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20960" y="3173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33680" y="1697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76960" y="1444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889680" y="227340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89320" y="230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7696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449680" y="328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24240" y="37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65680" y="4326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37320" y="4792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32600" y="382104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14400" y="119376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55520" y="3251160"/>
              <a:ext cx="466560" cy="4669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03560" y="16639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27520" y="97812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42000" y="31370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58000" y="429264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56200" y="4762440"/>
              <a:ext cx="46620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486400" y="23497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98800" y="260352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00600" y="3708360"/>
              <a:ext cx="466200" cy="46692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972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71800" y="450864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739880" y="41785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00280" y="46483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14400" y="3492720"/>
              <a:ext cx="466200" cy="466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971800" y="32511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41320" y="2451240"/>
              <a:ext cx="46656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4080" y="2565360"/>
              <a:ext cx="466200" cy="466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85720" y="1663920"/>
              <a:ext cx="466200" cy="466560"/>
            </a:xfrm>
            <a:prstGeom prst="ellipse">
              <a:avLst/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27120" y="17654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68600" y="1701720"/>
              <a:ext cx="466560" cy="466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97280" y="978120"/>
              <a:ext cx="46620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41320" y="863640"/>
              <a:ext cx="466560" cy="46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36600" y="342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28600" y="36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4600" y="4649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44600" y="342576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36600" y="2741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92060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486576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20960" y="2668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20960" y="3210120"/>
              <a:ext cx="113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81320" y="2776680"/>
              <a:ext cx="113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73320" y="436104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668240" y="184140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81320" y="3892680"/>
              <a:ext cx="114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